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10523"/>
        <c:axId val="20041242"/>
      </c:barChart>
      <c:catAx>
        <c:axId val="30610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41242"/>
        <c:crosses val="autoZero"/>
        <c:auto val="1"/>
        <c:lblAlgn val="ctr"/>
        <c:lblOffset val="100"/>
        <c:noMultiLvlLbl val="0"/>
      </c:catAx>
      <c:valAx>
        <c:axId val="20041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10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51E-AAC2-4512-963C-54240223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56A-E3BD-4C78-A7F6-A6667B92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60C-6FC8-4559-BE26-8EA87D99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A59-C4C3-4D09-9392-050A79F1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90A-A0A6-4526-A2A0-B5D8C207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D85-ED3E-4C50-8D9D-E7E08A21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685-775A-4650-8652-C8973D30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FC6-6186-4DA1-8F70-5E99A6B7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193-90E5-4BE4-8AC8-D66E69AF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024-D649-42CD-BBB9-17946C87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14D-1890-4079-844E-A8B7F9C3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3B6-7078-437B-AF48-FB1CC550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BC396-3E2D-4079-8B2A-228F42FABC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