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63529"/>
        <c:axId val="3302899"/>
      </c:barChart>
      <c:catAx>
        <c:axId val="83163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2899"/>
        <c:crosses val="autoZero"/>
        <c:auto val="1"/>
        <c:lblAlgn val="ctr"/>
        <c:lblOffset val="100"/>
        <c:noMultiLvlLbl val="0"/>
      </c:catAx>
      <c:valAx>
        <c:axId val="3302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63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3E1-AEF9-45D8-ACD3-14904046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A00-8618-4206-B044-76E0779A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EB8-7992-44DA-9023-31218F71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F16-8625-4119-98F8-81C5044E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81C-A2B4-44AC-AC5A-46B528AF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969-1829-4238-B331-8F090750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10D-162E-4432-A86C-F54DF49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1FF-C1C1-46E7-85AF-F28D78C3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044-113C-4C02-8A21-00092C90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5ED-2DE7-45C3-8FD4-755B2E9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3D9-5CF9-4129-B399-0156C1B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87E-9342-4CE0-BF04-768F040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10BAF-517C-43F0-B7F1-1CA295E3F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